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943-B667-427C-9597-7E727254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519-5FAF-4004-8CB2-21CAC7DF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35A-81E6-4055-B67D-828C9889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499-C046-4180-AAEC-3108E766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CAAE-1DA4-44D8-B548-02DAA3F3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1978-69DB-4289-A542-96CBA457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040D-F916-4218-B44A-0E321F98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8B1D-27AC-4E81-817A-2186D3CA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096E-7AD6-40EE-BED4-A8FB604C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718F-FC21-45A5-A7DC-4495449A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B932-0525-4966-AFB7-961377B0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A447-5401-47BA-8380-56A23290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404E-EA99-4B79-8137-0206C0C5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8ADA-5654-42B5-BEF0-F56BEB3B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95A3-E45A-4584-B0E9-6B3E3AA4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9385-084E-4C2B-88DB-7874405C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5271-81A4-445D-A7A6-F3656B61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92A4-5AD5-494D-BB47-39EFAD3C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3E3-991C-4529-BCA4-B58A9F47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AB0-3923-41D0-9164-6069022D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A3D-8002-423E-B5B3-86207DD4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D036-BE4E-4B5E-A744-D4AB2A71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142-22D5-4405-8359-6D3ED162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0281-D11D-4ABD-9768-0B127527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5E49-BEAA-4E9D-9364-1FF32EF72BC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7A33-F343-4935-94D8-6F365B2D0C0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Addressing Uncertainty, Addressing Audience 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mbiguity, Unfamiliarity and the Approach to Academic Wri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hetoric: reality interpreted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Reality isn’t always cut-and-dried or “self-evident.”  As rhetors, then, your job is to take a stance on issues which are </a:t>
            </a:r>
            <a:r>
              <a:rPr b="0" i="1" lang="en-US" sz="2000" spc="-1" strike="noStrike">
                <a:solidFill>
                  <a:srgbClr val="000000"/>
                </a:solidFill>
                <a:latin typeface="Goudy Old Style"/>
              </a:rPr>
              <a:t>controversial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Goudy Old Style"/>
              </a:rPr>
              <a:t>arguable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—they may be interpreted in at least two ways, and you must make a compelling, plausible case for your 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386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hetoric, reality and </a:t>
            </a:r>
            <a:r>
              <a:rPr b="0" i="1" lang="en-US" sz="4400" spc="-1" strike="noStrike">
                <a:solidFill>
                  <a:srgbClr val="999900"/>
                </a:solidFill>
                <a:latin typeface="Garamond"/>
              </a:rPr>
              <a:t>dissoi logo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Thesis: it’s an old h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Eviden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he dark line is a mou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here is a bag under the left ey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A large nose is in the cent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Antithesis: it’s a young wom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Eviden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he dark line is a chok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Her left ear is show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Her left jaw line is visib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Either view is a belief, the result of persuasion (</a:t>
            </a:r>
            <a:r>
              <a:rPr b="1" i="1" lang="en-US" sz="2400" spc="-1" strike="noStrike">
                <a:solidFill>
                  <a:srgbClr val="000000"/>
                </a:solidFill>
                <a:latin typeface="Goudy Old Style"/>
              </a:rPr>
              <a:t>pistis</a:t>
            </a: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2352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extual/Rhetorical Awarenes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Goudy Old Style"/>
              </a:rPr>
              <a:t>raison d’être* 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f this class is to make you more textually and rhetorically aware, to make you self-conscious manipulators of language and bearers of argument about uncertain issu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he language of this course is designed to give you a meta-language—a language for talking about language—and so give you a critical/analytical view of discourse; the terms you learn are the raw material for your rhetorical meta-cogn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Every comment you receive on your papers is geared toward one goal: making you more aware of what (persuasive) effect your language choices have on an </a:t>
            </a:r>
            <a:r>
              <a:rPr b="0" i="1" lang="en-US" sz="2000" spc="-1" strike="noStrike">
                <a:solidFill>
                  <a:srgbClr val="000000"/>
                </a:solidFill>
                <a:latin typeface="Goudy Old Style"/>
              </a:rPr>
              <a:t>unfamiliar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 (and not necessarily converted) audien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o be rhetorically effective (in any context), you </a:t>
            </a:r>
            <a:r>
              <a:rPr b="0" i="1" lang="en-US" sz="2000" spc="-1" strike="noStrike">
                <a:solidFill>
                  <a:srgbClr val="000000"/>
                </a:solidFill>
                <a:latin typeface="Goudy Old Style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 be able to envision your words through the eyes of your audi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ith that imagined or actual audience in mind, cast your thoughts into l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udy Old Style"/>
              </a:rPr>
              <a:t>*Cool French term, n’est pas?  It means, “reason for being.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“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ve” away from the “modes”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e so-called “modes” of discou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Expository (process, compare/contrast, defini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arr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Persuas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Descrip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o meet the needs of an unfamiliar audience, many of these “modes” will need to be turned into “move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Most, if not all, “modes” are present, in varying degrees, in different examples of discourse (texts*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nk less in terms of rhetorical “modes” and more in terms of rhetorical “move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udy Old Style"/>
              </a:rPr>
              <a:t>*“Texts” means both spoken and written uttera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“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Rights” of the unfamiliar academic audienc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Goudy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o be given new inform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Goudy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o be provided with some sense of “where” the paper or essay “is going”—</a:t>
            </a:r>
            <a:r>
              <a:rPr b="1" lang="en-US" sz="2000" spc="-1" strike="noStrike">
                <a:solidFill>
                  <a:srgbClr val="000000"/>
                </a:solidFill>
                <a:latin typeface="Goudy Old Style"/>
              </a:rPr>
              <a:t>to know the rhetor’s purpose(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Goudy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o be “brought up to speed”—</a:t>
            </a:r>
            <a:r>
              <a:rPr b="1" lang="en-US" sz="2000" spc="-1" strike="noStrike">
                <a:solidFill>
                  <a:srgbClr val="000000"/>
                </a:solidFill>
                <a:latin typeface="Goudy Old Style"/>
              </a:rPr>
              <a:t>to be apprised of </a:t>
            </a:r>
            <a:r>
              <a:rPr b="1" i="1" lang="en-US" sz="2000" spc="-1" strike="noStrike">
                <a:solidFill>
                  <a:srgbClr val="000000"/>
                </a:solidFill>
                <a:latin typeface="Goudy Old Style"/>
              </a:rPr>
              <a:t>relevant</a:t>
            </a:r>
            <a:r>
              <a:rPr b="1" lang="en-US" sz="2000" spc="-1" strike="noStrike">
                <a:solidFill>
                  <a:srgbClr val="000000"/>
                </a:solidFill>
                <a:latin typeface="Goudy Old Style"/>
              </a:rPr>
              <a:t> background information that isn’t “common knowledge” but which is nonetheless necessary for processing the argumen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Relevant defini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Descriptions of persons, places, things not widely known but which the rhetor chooses to bring u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Contexts for quotations us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Goudy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o be guided through unfamiliar terri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Paper organiz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87680" indent="-357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Metadiscour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oudy Old Style"/>
              </a:rPr>
              <a:t>*Your audience may not agree with your thesis, but he/she must at least know </a:t>
            </a:r>
            <a:r>
              <a:rPr b="0" i="1" lang="en-US" sz="1400" spc="-1" strike="noStrike">
                <a:solidFill>
                  <a:srgbClr val="000000"/>
                </a:solidFill>
                <a:latin typeface="Goudy Old Style"/>
              </a:rPr>
              <a:t>why</a:t>
            </a:r>
            <a:r>
              <a:rPr b="0" lang="en-US" sz="1400" spc="-1" strike="noStrike">
                <a:solidFill>
                  <a:srgbClr val="000000"/>
                </a:solidFill>
                <a:latin typeface="Goudy Old Style"/>
              </a:rPr>
              <a:t> you take the stance you 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view: The two </a:t>
            </a:r>
            <a:r>
              <a:rPr b="0" i="1" lang="en-US" sz="4400" spc="-1" strike="noStrike">
                <a:solidFill>
                  <a:srgbClr val="999900"/>
                </a:solidFill>
                <a:latin typeface="Garamond"/>
              </a:rPr>
              <a:t>Un-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Uncertain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Reality allows us few, if any, objective certain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Plausible argument is the practical substitute for absolute certain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Interpretation builds on or overthrows interpre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Unfamilia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No audience has exhaustive knowledge of a su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Audiences are willing to be persuaded of other viewpoints given adequate reasons and new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Audiences need and demand to have questions answer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Addendum: For the skeptical of the radically skeptical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Can’t accept uncertain reality?  Certainly you can accept, then, that human knowledge is incomple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Kenneth Burke on </a:t>
            </a:r>
            <a:r>
              <a:rPr b="0" i="1" lang="en-US" sz="2800" spc="-1" strike="noStrike">
                <a:solidFill>
                  <a:srgbClr val="000000"/>
                </a:solidFill>
                <a:latin typeface="Goudy Old Style"/>
              </a:rPr>
              <a:t>terministic screens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—how terms “screen” out reality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Even if any given terminology is a </a:t>
            </a:r>
            <a:r>
              <a:rPr b="0" i="1" lang="en-US" sz="2400" spc="-1" strike="noStrike">
                <a:solidFill>
                  <a:srgbClr val="000000"/>
                </a:solidFill>
                <a:latin typeface="Goudy Old Style"/>
              </a:rPr>
              <a:t>reflection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 of reality, by its very nature as a terminology it must be a </a:t>
            </a:r>
            <a:r>
              <a:rPr b="0" i="1" lang="en-US" sz="2400" spc="-1" strike="noStrike">
                <a:solidFill>
                  <a:srgbClr val="000000"/>
                </a:solidFill>
                <a:latin typeface="Goudy Old Style"/>
              </a:rPr>
              <a:t>selection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 of reality; and to this extent it must function also as a </a:t>
            </a:r>
            <a:r>
              <a:rPr b="0" i="1" lang="en-US" sz="2400" spc="-1" strike="noStrike">
                <a:solidFill>
                  <a:srgbClr val="000000"/>
                </a:solidFill>
                <a:latin typeface="Goudy Old Style"/>
              </a:rPr>
              <a:t>deflection 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of real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4:28:26Z</dcterms:created>
  <dc:creator>csclab</dc:creator>
  <dc:description/>
  <dc:language>en-US</dc:language>
  <cp:lastModifiedBy>csclab</cp:lastModifiedBy>
  <dcterms:modified xsi:type="dcterms:W3CDTF">2009-08-31T14:38:20Z</dcterms:modified>
  <cp:revision>47</cp:revision>
  <dc:subject/>
  <dc:title>A Word on Conclusions</dc:title>
</cp:coreProperties>
</file>